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204-9C7A-4D9E-8F6A-C674C2E2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2B3-39C9-46A7-A375-5408F8E7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4B2E-D50F-4847-BC4E-96DD341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A0B0A-3431-4E73-9C01-359780C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8379-78C3-4B99-8388-4F617B74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DA566-60A1-4801-BD55-17A0E82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F42F9-7897-4B0D-AB7F-B7A1990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56416-06E2-4B94-B7AC-E5C0195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C026-C55F-4657-A094-30BF963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9E41A-BAE1-42A1-A7C5-EBA61282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6E8E7-C8BB-4CD1-ACFF-0029D567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41190-5F17-498A-A8B7-7BB744C0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3F4-1471-48F3-8461-9AFD741F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419F1-6EB3-4E1E-8DD1-9B5F10CA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3873E-5E38-4B83-8BFE-1B8D66F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352A-2FB3-4A75-BB88-A2818AE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3BF6E-138A-496B-A705-95EC3CDA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1404E-E1CB-4CDC-96B4-99EE3CB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75E81-C59B-44F5-83D6-FD9C6085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E2F4-29A5-446B-A717-42A1722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D2B6-F910-44CB-BBF0-2CE3FED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AFB0D-9800-4914-AF27-C8EDB5AC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A827E-3ECC-4B4C-A190-EA0B1E55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D94-56D5-4101-8DA7-E2467869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2F396-C4A5-4A88-9A13-768F6341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8D9A2-A812-4BB2-9743-38A288FA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197C-EE83-47DB-8D25-C701E037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E5EC-143E-46C4-B3E1-005D15F5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3F4D1-5331-4D99-BCFE-8AF74F3A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4499-4BA1-4F8D-90E7-AAB71FD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B6EBD-4BCC-468F-9C1B-21FABF53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5A32E-F198-4599-AC54-F558EF5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8CCDB-0FCF-4333-9BB7-38762DE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08295-BAAF-4B56-BCE9-18F6716D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5FAC-2514-4BC2-9500-21765E4D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A9F81-D8EC-46C4-9073-C5DA7B3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C814-3E30-4C16-ABD7-CEA71C32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9A388-3234-4A0D-87C7-2947F973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6EE10-CC1D-4546-A9E1-DC3005E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AA1E-858C-40BA-B267-E6093F6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38025-F6E7-4556-A601-6E959316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6141D-2751-4773-8945-6B5A326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7F117-D569-405B-ACE4-3B05E35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26C38-FA42-403E-8FA2-57809EEF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7D943-40AB-43D5-B7C5-057969E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F62-34AC-4C7E-A9CA-CF5C1E9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3A7DD-0EC1-4C66-B024-7166971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D9D2F-BBEA-4DB0-891B-F243F73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5271B-7494-47A5-AF1B-6B2BE1FC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55AF2-448E-4AD1-A9DF-43456B4F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22714-F38F-4904-8662-E4F1D25C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54FD3-76BB-46DB-A652-2D16F98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98ABB-1207-46BA-A76E-2AA6EA3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231DE-2E80-4DF9-B768-32934B0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AD576-7D09-4F23-B61F-2E330B7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820B7-19DA-47B1-A7EB-B5F890CF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F05-6CDC-4D2C-A2B6-31C7E86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0A717-1C97-48AD-B95C-905E853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76624-CD66-4C8A-9EA7-D7991BB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4EBCB-A7C1-402F-A5CF-22EA71D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21FAA-7CDE-40F0-8705-EC0E9D6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EB0D7-008E-40D5-BB38-40F507DC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4AF77-2EB6-4356-A34A-FCE48463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D9AB6-F47A-42D8-B8EB-2265B9D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49856-7120-47AD-8291-4392EBE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1696D-E43C-4E51-85B8-7F828D4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F1609-443F-42B4-8A40-4E905D7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2E7-6DF6-4F38-BDBF-0581E31E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BFE55-E1F2-4454-B716-92546A7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B7FBA-77B2-462C-B0E3-CFDFE43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4F964-B288-44DF-A63A-E7093B46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357CF-D8C6-4C58-9AAA-03AE48A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DD5CE-B057-4BEC-9D48-AB06CDD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33DB8-8072-469A-8D99-600BE28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090E9-53D9-46D0-9E95-0F788A1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F8EEA-4109-4EDF-AEF0-C66BB454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3A6F2-15FC-4BDE-BBE0-AFA8C276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91BB6-A0CD-49BA-9AE7-8423556B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FAC-23A3-4E3A-BEA3-CFF7381C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DD106-0B91-49AD-BE5D-C3EF969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16A93-852B-416A-9A84-72DEC441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C77A8-9CC7-4FDD-AD8F-C9EFBFA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7FB9D-ED94-4199-B433-6B483FE4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9BD10-2662-42D0-9099-6D8DE280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7CD07-8E90-46AF-80D3-C5658B9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0AF8D-41B1-4270-B577-8B7D593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80C39-62FB-4ADB-B634-61EE7E3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3BAAD-755A-462C-859D-6F52796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3D9FC-FFEE-4C63-B94A-6422E9EA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A040-8E1E-4FE4-AE86-EBA9DA8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346DC-8768-4E98-AFFD-A517E4BA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C494D-0C92-4262-8D10-58728C07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32AB1-3CB5-4479-8639-600A7D65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69406-C013-4DFB-8E57-3B1A8F9C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E2F92-4AD4-4E51-A740-B8EE2AC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D54E1-9A0A-4F5D-8555-E7CD7363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0AE20-669A-4B68-A750-5441827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ACFA5-9124-4118-9275-747E1B7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85EFF-4DC1-42EA-8A1B-0DA5B86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E9CA3-6D0D-4BB2-928F-EFC327A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2187-5EAB-47A0-81E1-8A3C5FD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73E4F-2D20-4551-AFBD-11629D29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A9DBE-0EEF-485E-9A9E-BC2DC73E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C694B-5A9B-4217-A7B3-F9350726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17AF8-B077-4182-93EA-6F3B5F14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AD46C-7212-436C-B8E3-18BB1142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32FD7-9D35-4E4B-9529-81F9079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61BD2-74B1-4FDC-9ED3-6665C18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62D7D-FFE7-4E54-9D11-218CB6B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5CBE0-EEED-44C5-A1BF-5C6300EF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B432B-6546-4E91-8726-476EC90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D2B-9E25-4E7C-8921-F18B9FAF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933-9D0B-4709-9EEF-86C4249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628B3-3A9E-423F-8EB8-EBFC193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A26F0-93FB-4AD8-880A-84F4D30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6B1FD-C60B-405F-848D-80DA342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DA7F5-6408-4464-A239-C2110586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50CD9-EA06-4F7D-A1DA-B353942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4C1E4-0144-477D-B56E-E5394211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CDC93-E7A4-406D-A924-BA78B077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33FE2-FD5A-46D7-8819-BF4986C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7A39D-D7CA-4B1E-8203-F49D737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90CDD-F18A-476E-8A8B-DA7460F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7F25-A978-45D5-9C46-6522AEF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27329-78A9-49AA-8582-6605A66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D894E-D6B6-4A9D-95EC-0E08A4A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6F5F3-2403-4682-A5AB-8641583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DE47B-DA22-463D-81DC-3E46AF6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42EF3-B776-4607-9319-69413D89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5F4F2-FA84-4EE2-A5E0-8C6B5975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26F09-F42D-4C96-A678-1146AAAF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4AC92-48BC-4D53-84A7-ACC01590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681F8-045E-4A7B-941B-2FEBF4B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86BAD-8B28-47E5-8AA2-0F0A351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09B1-6A62-40F1-912D-A9D2A07C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CFAE2-A3C6-4D06-B8FA-06B513E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E1106-66B8-4F8A-8406-687073D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247E7-AA55-4811-AB35-1A5BDF0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2CED3-2FF0-4D11-AB03-757E1E5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208A2-4C93-4AB7-9F92-DACDE22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5B1D1-C3E2-4B4A-98A9-A236EF1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C1B28-AE1B-4552-94A1-15AE9AC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15B20-CA19-4536-AE73-619BD485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52C01-5582-4A65-BE0D-11EB2152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E7AE2-FA00-4151-ADCF-F56F9051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E8C7-326C-435B-BF5E-D6696A6C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9B6BB-D4AC-4584-AD11-E003849B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A8CE6-49D9-4895-AD41-DA5B2F9B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901B5-1C07-4035-9A74-5D29C50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AFFBF-07AF-40F9-BFF7-E49F185C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7FF79-B694-4FC8-BB81-181148DB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46510-2FDE-43E1-B7BF-7FFF1B8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7A21F-73D5-4BD8-B7AA-51498C7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1F982-AF6C-4753-955F-1DB6A85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FE356-7ADD-4BFA-AA6C-A4FC9B5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CB3B3-0174-477F-993D-99BBB1B4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CA0-DB90-4B5B-B586-52171261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C1723-0B79-4B1C-9EE2-5FA4CDBC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8C33F-A524-4950-A524-CE9A7617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F7854-F330-44BD-8B9E-299B898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1B057-24D8-4D9C-896D-FE24DC86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A9012-172B-48BB-B7FD-62B33D8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F0737-4B4A-4AE9-9C65-A790EE14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E9777-3EE9-4254-BA02-DE41A206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9868E-07E3-4235-AED6-35913F4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8EBFB-05B5-472E-B26A-23D8F40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AC624-BA17-4584-9639-D4802D0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1291-EB6B-417A-9EF9-3B7121B2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2FF39-6E50-40D8-B0A7-7C14E4FD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EC450-C7AA-4AFA-A75B-08C5BA84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52A701-ECF5-4CB1-86D2-C0177C27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5079C-C99F-41C0-8684-114F65DA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F2C90-E8DB-455F-B4E1-E832329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8887E-05FA-49AB-A110-7EA9C3E5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E876C-4E0F-4B46-805D-B9EC1FB4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5E6ED8-D860-421C-8AB5-F667AB64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F9C21E-D498-4B6A-9AD2-9574EF5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AA520-0CF4-490D-9C69-728C650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E207-D81A-458A-A391-695EEE3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73EC7-B266-4E38-A987-9763A9D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4A145-43C8-4B08-B862-949D687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66429-42CB-4835-8132-D02095F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CE91F2-2090-4650-A036-DCE48836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467759-ED53-4FBB-8595-B07F6570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936DE-8726-4ECD-A98A-238CB119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9911FB-737D-419D-BCA0-A629FDC4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361100-A974-48DC-8126-DEF00A4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9F03F2-7B50-4B85-927A-2998EFFA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B2482-9C44-40B0-AB8D-7B39B67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5FF9-4E95-41D2-B98D-7992C89B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52F14-0E7E-4DFA-8CC6-C030BC6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BE6E18-F9B1-4B49-B2B7-2CBE761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9E3C5C-B7C2-4A82-99CC-2F19FD0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AB0242-00DF-4227-9C05-8AE7CD4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6E099-A345-4855-A8A9-370AE264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0EA53A-CC00-463E-83BF-789A1579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BD38B-0861-4D42-8474-68D0A285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10D2-47EE-4846-AB9B-EFCCA3F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C106-8250-4A8D-A03F-2F6CE97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547-3623-40AF-8827-65438812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6BFE-3034-449F-A365-0D888B6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AF6E-78B7-497B-8D39-A975A33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5157-520C-416A-8124-9D8F12DC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FF7E-DEF8-4146-A1F3-40D21A2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F7A2-6B06-4343-A9E1-7CE050EB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BEF6-0AE4-463D-A602-FA688E1D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B03F-28E7-485C-B9DE-250556BF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2EB1-A78B-4911-919B-B03C5AF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7D19-DE67-4BFC-8968-C000FC8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0088-0150-4A85-A69C-59AACAE0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124-5D8F-44B8-A8A9-4BD7533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359A-1E3D-4AC2-8360-2F5E3B2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940D-BCD8-4E62-8F84-BD0127E0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48B7-DE47-4AC7-8EAA-80626D78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E552-9DFB-4E3A-9A91-E253E06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D563-5D30-4523-88EA-4B93AC8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C65B-BEBA-4C73-A6B1-7BB197FA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EBD4-9939-46EF-9F9D-7D55CE4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AF7F-E9FA-418F-A43A-6F81829A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B5AC-B9EE-4AF1-97FB-533D797E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553F-962F-44D1-899D-FC4CA6B7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125-47AA-44FC-A8DD-98459F3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9075-2C0C-429F-9E22-36288C9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A15B-4FE9-4A64-8725-D8FCFF5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702F-9CC0-4B81-8EDB-E08F17CD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24A6-6C7F-490F-92C4-C3E211A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A963-8980-4A7B-8798-8DE4A28F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0FE1-A165-48CD-971C-B581E92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18F5-D0B0-447A-B133-BBBC4CB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6626-8523-40D6-92CD-B79AD3A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AD94-12BD-42CD-B0D1-03DBF903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9ACBF-2B2E-451C-93B8-0D7EB1C9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524-D948-43C9-958E-CB39B609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D62F-2DC8-4250-B323-D67180D8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3D38-28A3-41FE-AE3A-C81078FC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6C434-E828-43DF-82BC-8BD3C83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40D8-738B-42CF-9315-31F06465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0895-A349-4222-90B5-5305E4D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08CB6-972E-4925-8CB1-C798DFD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D8254-0B25-496D-BE31-5AA5C48C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655F2-104A-41B3-B894-91ACC00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CFFE-90BA-4C94-B4E8-265424F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08BD-5283-480A-80D7-27897B6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CE0-62C4-4DB3-9C42-19AAFD5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8BE04-F9FF-4BF2-9B3E-8FF79DED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5521-6037-4CA4-8A09-09467EFE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DB60-CEF2-4FB2-B5A2-38842827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7836-DF4B-44B1-B8C4-16E112E0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A93B-6A27-4924-9122-609D211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E0D7-403F-44B8-871E-CD13CBCD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F4BB-B2AA-4900-8845-4286138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8C07-2123-45B7-84DA-851B0BEE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2034-1D09-49D9-8FE3-7F0BF9C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DB74-AF86-4344-9ECE-80E1A60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179-33EE-4DC2-835A-C2DBBA6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69A8-0B4C-43D5-B1B4-48EF4FB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A2B55-47B5-4DF1-AC1A-C4D0062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74F6-F6FC-4BB9-AA4A-1C1F9114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AC193-0041-4A61-B51B-C80E098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457E5-B94B-47EA-B7DF-91315123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CBC84-A6A6-43BC-8603-D301358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6AE8F-934A-4322-83AC-F7F6084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687C-0227-4580-9C25-DD35969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90BA-B2FD-41D7-A7E5-034851B1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A540-7242-43B8-9FC6-C633A82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412-3407-48CC-95E7-7C1491A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6F24C-330F-4A46-B4E9-5F602EE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6579-A02F-4EB2-AD54-D94E181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EA57-F6CE-4159-A5C6-1544296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8A13-18E5-4DBC-AF50-4F2DA54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F10D6-CB53-4861-BF54-8A4C130B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5E9A-2FEE-494E-9796-FE4DCE17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D8B2-6C28-4879-8D7F-E9D7201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1F27D-3C80-43F1-B20A-3EAFCD96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B1DD-30B5-4FBB-9D87-4A0F404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D316F-B4E6-4682-AA9A-76D3ACBF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83F-9363-4237-BB12-09743AE1E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611E-0397-431A-AF40-7E97DF54D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5935-86D5-4D4E-9201-25EEE39B8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7668-1A09-4FCC-9AD8-AFCBB8920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DE5E-24EA-4146-B333-2E59715B0D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CFE-37C1-4AAD-A4AF-72BE9776D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3CC-EA8E-4D2B-823E-F2739D8AB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D25-245A-4BA8-A0AF-D721C21A8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0BA9-F409-4102-9853-3B6146C5D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24B-C0C7-4789-A19C-5C4E7B15F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ADB1-D72E-40B0-8B7F-EA44D0D0A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BFC2-F9EA-4528-998F-B448AA365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976-629B-4911-B807-3D97C7E25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8F3-2AF8-4171-AC71-22880C787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EEA-1285-46E8-AE24-663ADA774C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F0C6-6A82-4D56-A9F0-AF7302ADE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47D6-C746-4000-A60D-3E241A971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336-AE95-489B-B6E3-B147DDC2D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19A-7C91-40E9-911D-879DFCDEE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9DF6-13A4-47A5-B012-8D5C4994C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27E-24A2-4C4E-8085-A16467D2F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F5AA-B6FE-480E-B58A-5B2D0A52D3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358-0E31-449D-91F3-2A397BC23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65C-988D-444A-ABD8-834CD0A18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43C7-8768-4787-A8A6-6FBD08C0C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985-E1FA-49BE-B645-9F9508127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0C31-699C-4F02-9376-707970504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4207-8AA2-48FF-9CBE-134D86BFE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2E3B-9318-4A1A-AB9B-39E825A69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063C-7D87-4FD9-B576-F3E9ADC14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685-97E0-4A08-BA3A-B6977C1377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000E-67CF-44BA-9310-C667E7395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4AD-DCAB-4E83-A480-FCC4FF136C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7E5E-963D-4A66-BFA4-E098776B2C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BB8B-3F00-4FCC-A6C3-F361AA0FF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348-0E0A-4023-A68B-C7EA9005F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39B-973C-4768-A643-8E04C64DE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AF0-6C1D-45BA-9B94-074CDBF6F7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3C8-2CFB-4DBD-884E-3802B9F3D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B791-E8B4-4336-888B-6974628B8B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6F7-5223-4979-AFC2-752F58286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7CA-CB78-4196-9C80-8B7314873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57480" y="3076560"/>
            <a:ext cx="48290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2840" y="1395360"/>
            <a:ext cx="9058320" cy="4067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248440" y="2075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49880" y="24638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516720" y="22478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19564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39880" y="2722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841320" y="31114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747800" y="4826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1749600" y="52149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4714920" y="4826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4716360" y="5214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7580160" y="4811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7581960" y="52005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338040" y="1843200"/>
            <a:ext cx="8467920" cy="31716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7170" descr=""/>
          <p:cNvPicPr/>
          <p:nvPr/>
        </p:nvPicPr>
        <p:blipFill>
          <a:blip r:embed="rId2"/>
          <a:stretch/>
        </p:blipFill>
        <p:spPr>
          <a:xfrm>
            <a:off x="1227240" y="2389320"/>
            <a:ext cx="2552760" cy="199044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7171" descr=""/>
          <p:cNvPicPr/>
          <p:nvPr/>
        </p:nvPicPr>
        <p:blipFill>
          <a:blip r:embed="rId3"/>
          <a:stretch/>
        </p:blipFill>
        <p:spPr>
          <a:xfrm>
            <a:off x="4087800" y="2414520"/>
            <a:ext cx="2571840" cy="19717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7172" descr=""/>
          <p:cNvPicPr/>
          <p:nvPr/>
        </p:nvPicPr>
        <p:blipFill>
          <a:blip r:embed="rId4"/>
          <a:stretch/>
        </p:blipFill>
        <p:spPr>
          <a:xfrm>
            <a:off x="6862680" y="2262240"/>
            <a:ext cx="18194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14520" y="981000"/>
            <a:ext cx="7914960" cy="48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732720" y="34005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8196" descr=""/>
          <p:cNvPicPr/>
          <p:nvPr/>
        </p:nvPicPr>
        <p:blipFill>
          <a:blip r:embed="rId4"/>
          <a:stretch/>
        </p:blipFill>
        <p:spPr>
          <a:xfrm>
            <a:off x="1979640" y="4941720"/>
            <a:ext cx="1781280" cy="60984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8197" descr=""/>
          <p:cNvPicPr/>
          <p:nvPr/>
        </p:nvPicPr>
        <p:blipFill>
          <a:blip r:embed="rId5"/>
          <a:stretch/>
        </p:blipFill>
        <p:spPr>
          <a:xfrm>
            <a:off x="4313160" y="4738680"/>
            <a:ext cx="1752840" cy="92376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8198" descr=""/>
          <p:cNvPicPr/>
          <p:nvPr/>
        </p:nvPicPr>
        <p:blipFill>
          <a:blip r:embed="rId6"/>
          <a:stretch/>
        </p:blipFill>
        <p:spPr>
          <a:xfrm>
            <a:off x="6588000" y="4508640"/>
            <a:ext cx="1629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45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